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7B43-8A29-4F52-97C0-68FB4E669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34B1-E8FA-4019-8978-C80EC551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3891-F99A-4972-AB3F-35C7C9819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4800-A91D-4E07-A6FF-9873001BC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0FA7-0AA2-4071-B294-8FB7539B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9229-6942-4D91-9BE9-E0021789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D9F0-2DCA-4983-AA28-5E1DB874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A8D0-72B6-4AD7-BB3A-A03D651B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AB6E-78CC-4F07-82EB-BC1FA167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6059-D1BF-4B49-B6C7-98A482A0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2A3B-F546-423B-9B96-DCF5F37E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F008-4861-4655-BCD4-2992EC09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0C40-31BC-4B0D-86A7-FD6BA4CA7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sianart.com/exhibitions/shandong/7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ds.yahoo.com/_ylt=A0PDoTBxbZpNSjUAHemjzbkF/SIG=12kihb054/EXP=1301994993/**http%3A//www.shen-nong.com/eng/images/history/qinhan/img_chun1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in and the Qin Dynas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4114800" cy="2913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486400" y="1371600"/>
            <a:ext cx="3178080" cy="5181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85800" y="4191120"/>
            <a:ext cx="41148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UNITING CH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523880"/>
            <a:ext cx="8686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in was King of a state in 246 BCE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d a strong army of foot soldiers, archers, chariots of  600,000 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quers all of the other Chinese states by 221 BCE and declares himself empe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uses spies, bribes, and alliances along with melting down rivals weapons into bells to get and keep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s feudalism and forces 120,000 ex-nobles to move to the capital, Xianyang, so he could keep an eye on them since they had the real power before 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s a bureaucracy of 36 commandries which are ruled by 3 offic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vil governor – laws and far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itary governor – arm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erial overseer – kept an eye on the other two offic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commandery is divided into counties overseen by a ju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nforce the la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70600" y="3789360"/>
            <a:ext cx="227340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>
            <a:hlinkClick r:id="rId1"/>
          </p:cNvPr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2209680" y="4191120"/>
            <a:ext cx="4334040" cy="3120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TANDARDIZING CHINA’S CUL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5238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a’s culture differed from region to region before Q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in standardizes China’s 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ing system consisted of a dictionary of 3,300 characters which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6 was the basis of all measurement and measuring cup w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coin called a banliang was used as cur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in was a legalist so he created a system of laws and everyone was treated the same with both rewards and punishmen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s = fines, beheadings, forced labor, whipped, amputation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t a network of roads to inspect his emp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ONFLICTS WITH SCHOL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295280"/>
            <a:ext cx="807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in conflicted with Confucian scholars because his reforms went against Confucianism's belie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ucianists believed a ruler’s good behavior would make the people behave and you must honor past tra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in as a legalist believed that people were evil and needed strict laws and harsh punishments to behave and he rejected the past and devoted himself to new ideas and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ned almost all of the Confucian books and forbade public teaching of Confuci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d over 460 Confucian scholars for plotting against him and had them buried alive or behea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 own son was punished for sticking up for the scho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View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4738680"/>
            <a:ext cx="335268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BUILDING THE 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295280"/>
            <a:ext cx="89154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in built many public works projects (roads, water canals, Great Wall) b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ing hundreds of thousands of his people to build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ed and extended what was already started as the Great Wall acros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ypes of terrains and we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d this to prevent invasion and discourage esc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took at least 300,000 workers (soldiers, peasants, govt. officials, crimina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s of thousands died building The Wall and were buried in it making it “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est graveyard in the worl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ll is over 1500 miles long, made of stone, brick, and di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height = 25 ft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thickness = 15-30 f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did not fill it’s purpose but still is considered an awesome achie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666880" y="4572000"/>
            <a:ext cx="3819600" cy="20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MPEROR’S DEATH and BUR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06668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in was unhappy and scared of death and wanted to live forev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mmorta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 told to hide from evil spirits so in his 270 palaces he had secr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ages built in and between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d in 210 BCE at age 49, poisoned by drinking potions that were to g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m immort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 death was kept a secret until his body was returned to the 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 laid to rest in a magnificent tomb that was started when he was 1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overed 8 sq. miles and took 700,000 workers to make, workers we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ied alive with Qin so no stealing would take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omb contains the terra cotta army (clay soldiers), city of bronze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ury rivers and seas, jewels, rare objects, tools and tr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The Terra Cotta Army is located east of Emperor Qin's Mausoleum, serving as guardians to protect the entrance of the Emperor's burial…"/>
          <p:cNvPicPr/>
          <p:nvPr/>
        </p:nvPicPr>
        <p:blipFill>
          <a:blip r:embed="rId1"/>
          <a:stretch/>
        </p:blipFill>
        <p:spPr>
          <a:xfrm>
            <a:off x="2590920" y="4570560"/>
            <a:ext cx="388620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00:49:39Z</dcterms:created>
  <dc:creator>gehadde</dc:creator>
  <dc:description/>
  <dc:language>en-US</dc:language>
  <cp:lastModifiedBy>gehadde</cp:lastModifiedBy>
  <dcterms:modified xsi:type="dcterms:W3CDTF">2012-03-22T17:57:20Z</dcterms:modified>
  <cp:revision>22</cp:revision>
  <dc:subject/>
  <dc:title>Warm-Up:  #6</dc:title>
</cp:coreProperties>
</file>